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E0E8E-7133-4531-B3F9-547728DD66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C9150-B355-454B-AF35-7A85B7E1BA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9C40C-37DB-43EA-906E-B415DE02B6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0756E-04B2-4EC2-AE41-DD411D105CFC}" type="datetime3">
              <a:rPr b="0" lang="en-US" sz="1200" spc="-1" strike="noStrike">
                <a:solidFill>
                  <a:srgbClr val="000000"/>
                </a:solidFill>
                <a:latin typeface="Arial"/>
              </a:rPr>
              <a:t>July 30,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0F273-A4BE-4754-8DBE-5AA56C6DEA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54F4B-F222-4888-A215-B93B543390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252F0-8D93-4B5C-8CB1-5BC9CC27BC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6D3E0-BB15-43D2-A992-6DBB7AB55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C408E-AC07-4F20-B685-FDE1667FC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B44CF2-2BAB-4F0A-A75A-65AA7E126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45F8D-CB2F-4C71-A946-2D69441974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F2E105-7A3A-44E5-A93E-969AA217D3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397E3F-5227-4662-BE21-2C009699F2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79B872-DD17-4338-B8E7-A399B90CA5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BC3145-2EBE-43D4-A146-765E5BF6D0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2F91E1-C036-4E8B-840C-664674BB02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11593C-6C99-4A49-BA9F-DC2604327C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26219-56A5-4F73-B7EB-40BEAD6FD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1B088-D1D3-4CEB-BA37-3B838292D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60C34-7A0E-4D04-A5CD-05860C3D1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15A56-0121-445E-8860-9CDBBD178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D4B12A-2A3F-4891-9EB2-B2430F246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2E68A2-B667-44E8-9A79-B5C7B854A7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A3DA2C-C777-424B-8A67-29E5CCDB31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264DF-32B1-4DBE-8AF5-34DC24D71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61C9B-FE17-44E0-A97C-8F6B4574E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44A6F-0E1D-408B-8DE3-2FDCAF94C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0F8A9-D699-4D02-8923-DF4819F75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BA27A-654A-49DA-AF8B-59D54ACC6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20864-1B91-4E6C-B65B-BACB46A01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0F835-2DBA-4EA9-BFF2-58A8A33FD1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DD2FD-54E0-490A-93FC-7DE080E50D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30DFC83-E9E2-42A2-B15A-EB2D649BCBC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893706D-0D82-47EC-B785-5D701D20115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A8B3B-1A45-4969-B53A-F5F9FA7F98A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20BF4-AF17-432F-8AC0-629EA66E0DBF}"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